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AF94-B09B-4C58-9318-08D0BD564B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timated metabolic equivalent of 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6C51-D2D8-4BD0-8198-9FB03D0A2A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CCA-AD3B-4EC8-8449-5EE678E0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D0D-BD1A-4E5A-BB50-464065BC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C75-7DB3-4F64-935A-60E3954C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092-4943-49E0-B081-EFA7D074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0A3-65FC-476C-AA58-D22EFA26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C5D-74E1-41C6-8C7D-36B8491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BFB-1C01-4D76-8644-51CEB655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494-47E8-4EF6-99AC-F59FEF3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F05-F28B-42EE-871A-92E786ED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BD1-4510-47CE-8788-C754ECC4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2B8-5BE1-4ABE-8059-DB5F13E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BA1-FAE4-447E-AFA5-E6530DB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4CF-C7DB-499B-92F4-871ABB4A02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2" name="Picture 11" descr="C-weiss"/>
          <p:cNvPicPr/>
          <p:nvPr/>
        </p:nvPicPr>
        <p:blipFill>
          <a:blip r:embed="rId2"/>
          <a:stretch/>
        </p:blipFill>
        <p:spPr>
          <a:xfrm>
            <a:off x="179280" y="6546960"/>
            <a:ext cx="731880" cy="269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971640" y="6597720"/>
            <a:ext cx="388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  <a:ea typeface="MS PGothic"/>
              </a:rPr>
              <a:t>U N I V E R S I T Ä T S M E D I Z I N   B E R L I N</a:t>
            </a:r>
            <a:endParaRPr b="1" lang="en-US" sz="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4" name="Picture 17" descr="balken_oben"/>
          <p:cNvPicPr/>
          <p:nvPr/>
        </p:nvPicPr>
        <p:blipFill>
          <a:blip r:embed="rId3"/>
          <a:stretch/>
        </p:blipFill>
        <p:spPr>
          <a:xfrm>
            <a:off x="0" y="0"/>
            <a:ext cx="9144000" cy="993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0"/>
          <p:cNvSpPr/>
          <p:nvPr/>
        </p:nvSpPr>
        <p:spPr>
          <a:xfrm>
            <a:off x="8626320" y="6597720"/>
            <a:ext cx="581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95E84B9D-9DB8-4C64-B44F-6EDEED057E3A}" type="slidenum">
              <a:rPr b="0" lang="de-DE" sz="7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7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39640" y="260280"/>
          <a:ext cx="7980480" cy="5402160"/>
        </p:xfrm>
        <a:graphic>
          <a:graphicData uri="http://schemas.openxmlformats.org/drawingml/2006/table">
            <a:tbl>
              <a:tblPr/>
              <a:tblGrid>
                <a:gridCol w="1330560"/>
                <a:gridCol w="1330200"/>
                <a:gridCol w="1328760"/>
                <a:gridCol w="1330200"/>
                <a:gridCol w="1330560"/>
                <a:gridCol w="1330200"/>
              </a:tblGrid>
              <a:tr h="77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s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ation (in min)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(in %)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ed (in km/h)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ed (in MPH)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s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m up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m up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Textfeld 2"/>
          <p:cNvSpPr/>
          <p:nvPr/>
        </p:nvSpPr>
        <p:spPr>
          <a:xfrm>
            <a:off x="678240" y="6093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le 1. 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08:58:01Z</dcterms:created>
  <dc:creator>Gollasch</dc:creator>
  <dc:description/>
  <dc:language>en-US</dc:language>
  <cp:lastModifiedBy>Samsung</cp:lastModifiedBy>
  <dcterms:modified xsi:type="dcterms:W3CDTF">2018-02-06T08:23:30Z</dcterms:modified>
  <cp:revision>2686</cp:revision>
  <dc:subject/>
  <dc:title>Kein Folientitel</dc:title>
</cp:coreProperties>
</file>